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3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4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5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6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7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8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1849320" y="216000"/>
            <a:ext cx="45039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7:04:03Z</dcterms:modified>
  <cp:revision>20</cp:revision>
  <dc:subject/>
  <dc:title>PowerPoint プレゼンテーション</dc:title>
</cp:coreProperties>
</file>