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297000" y="192240"/>
            <a:ext cx="5345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"/>
          <p:cNvPicPr/>
          <p:nvPr/>
        </p:nvPicPr>
        <p:blipFill>
          <a:blip r:embed="rId2"/>
          <a:stretch/>
        </p:blipFill>
        <p:spPr>
          <a:xfrm>
            <a:off x="439272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98"/>
          <p:cNvSpPr/>
          <p:nvPr/>
        </p:nvSpPr>
        <p:spPr>
          <a:xfrm>
            <a:off x="3027240" y="3619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99"/>
          <p:cNvSpPr/>
          <p:nvPr/>
        </p:nvSpPr>
        <p:spPr>
          <a:xfrm>
            <a:off x="3016080" y="963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330120" y="252360"/>
            <a:ext cx="3895920" cy="608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593640" y="3841920"/>
            <a:ext cx="3305160" cy="98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3967200" y="433224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3975120" cy="2859120"/>
            <a:chOff x="982800" y="982800"/>
            <a:chExt cx="3975120" cy="285912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3382920"/>
              <a:ext cx="436320" cy="436320"/>
              <a:chOff x="1005840" y="338292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3382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3491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4498920" y="1005840"/>
              <a:ext cx="436320" cy="436320"/>
              <a:chOff x="449892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46076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449892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4498920" y="3382920"/>
              <a:ext cx="436320" cy="436320"/>
              <a:chOff x="4498920" y="338292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4607640" y="3382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4498920" y="3491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1955160"/>
              <a:ext cx="304560" cy="914400"/>
              <a:chOff x="982800" y="1955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241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1955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4653360" y="1955160"/>
              <a:ext cx="304560" cy="914400"/>
              <a:chOff x="4653360" y="1955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4653360" y="241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4729320" y="1955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2513160" y="982800"/>
              <a:ext cx="914400" cy="304560"/>
              <a:chOff x="251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251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297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2513160" y="3537360"/>
              <a:ext cx="914400" cy="304560"/>
              <a:chOff x="2513160" y="3537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2513160" y="361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2970360" y="353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48:08Z</dcterms:created>
  <dc:creator/>
  <dc:description/>
  <dc:language>en-US</dc:language>
  <cp:lastModifiedBy/>
  <dcterms:modified xsi:type="dcterms:W3CDTF">2024-08-28T19:48:14Z</dcterms:modified>
  <cp:revision>1</cp:revision>
  <dc:subject/>
  <dc:title/>
</cp:coreProperties>
</file>