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9799560" y="40788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5716440" y="5634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81"/>
          <p:cNvSpPr/>
          <p:nvPr/>
        </p:nvSpPr>
        <p:spPr>
          <a:xfrm>
            <a:off x="5707080" y="961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632040" y="252360"/>
            <a:ext cx="407052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846440" y="58006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1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242120" y="614376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31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9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9375480" cy="4875120"/>
            <a:chOff x="982800" y="982800"/>
            <a:chExt cx="9375480" cy="4875120"/>
          </a:xfrm>
        </p:grpSpPr>
        <p:grpSp>
          <p:nvGrpSpPr>
            <p:cNvPr id="7" name="object 2"/>
            <p:cNvGrpSpPr/>
            <p:nvPr/>
          </p:nvGrpSpPr>
          <p:grpSpPr>
            <a:xfrm>
              <a:off x="9901080" y="5400720"/>
              <a:ext cx="432360" cy="432360"/>
              <a:chOff x="9901080" y="5400720"/>
              <a:chExt cx="432360" cy="4323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9901080" y="5508720"/>
                <a:ext cx="432360" cy="32436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09080" y="5400720"/>
                <a:ext cx="324360" cy="4323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640" y="5400720"/>
              <a:ext cx="432360" cy="432360"/>
              <a:chOff x="1007640" y="5400720"/>
              <a:chExt cx="432360" cy="4323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640" y="5508720"/>
                <a:ext cx="432360" cy="32436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640" y="5400720"/>
                <a:ext cx="324360" cy="4323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07640" y="1008000"/>
              <a:ext cx="432360" cy="432360"/>
              <a:chOff x="1007640" y="1008000"/>
              <a:chExt cx="432360" cy="4323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07640" y="1008000"/>
                <a:ext cx="432360" cy="32436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07640" y="1008000"/>
                <a:ext cx="324360" cy="4323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9901080" y="1008000"/>
              <a:ext cx="432360" cy="432360"/>
              <a:chOff x="9901080" y="1008000"/>
              <a:chExt cx="432360" cy="4323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901080" y="1008000"/>
                <a:ext cx="432360" cy="32436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009080" y="1008000"/>
                <a:ext cx="324360" cy="4323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5213160" y="5553360"/>
              <a:ext cx="914400" cy="304560"/>
              <a:chOff x="5213160" y="5553360"/>
              <a:chExt cx="914400" cy="30456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5670360" y="555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5213160" y="562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5213160" y="982800"/>
              <a:ext cx="914400" cy="304560"/>
              <a:chOff x="5213160" y="982800"/>
              <a:chExt cx="914400" cy="30456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567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521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982800" y="2963160"/>
              <a:ext cx="304560" cy="914400"/>
              <a:chOff x="982800" y="2963160"/>
              <a:chExt cx="304560" cy="91440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1211400" y="29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82800" y="34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10053720" y="2963160"/>
              <a:ext cx="304560" cy="914400"/>
              <a:chOff x="10053720" y="2963160"/>
              <a:chExt cx="304560" cy="91440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10129680" y="29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10053720" y="34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47:55Z</dcterms:created>
  <dc:creator/>
  <dc:description/>
  <dc:language>en-US</dc:language>
  <cp:lastModifiedBy/>
  <dcterms:modified xsi:type="dcterms:W3CDTF">2024-08-28T20:48:01Z</dcterms:modified>
  <cp:revision>1</cp:revision>
  <dc:subject/>
  <dc:title/>
</cp:coreProperties>
</file>