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7318375" cy="1045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トンボ説明ol"/>
          <p:cNvPicPr/>
          <p:nvPr/>
        </p:nvPicPr>
        <p:blipFill>
          <a:blip r:embed="rId2"/>
          <a:stretch/>
        </p:blipFill>
        <p:spPr>
          <a:xfrm>
            <a:off x="4925880" y="387360"/>
            <a:ext cx="105120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89"/>
          <p:cNvSpPr/>
          <p:nvPr/>
        </p:nvSpPr>
        <p:spPr>
          <a:xfrm>
            <a:off x="3268800" y="6904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90"/>
          <p:cNvSpPr/>
          <p:nvPr/>
        </p:nvSpPr>
        <p:spPr>
          <a:xfrm>
            <a:off x="3282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5" descr=""/>
          <p:cNvPicPr/>
          <p:nvPr/>
        </p:nvPicPr>
        <p:blipFill>
          <a:blip r:embed="rId3"/>
          <a:stretch/>
        </p:blipFill>
        <p:spPr>
          <a:xfrm>
            <a:off x="181080" y="149400"/>
            <a:ext cx="404172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366840" y="723888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7"/>
          <p:cNvSpPr/>
          <p:nvPr/>
        </p:nvSpPr>
        <p:spPr>
          <a:xfrm>
            <a:off x="4313160" y="735480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20"/>
          <p:cNvGrpSpPr/>
          <p:nvPr/>
        </p:nvGrpSpPr>
        <p:grpSpPr>
          <a:xfrm>
            <a:off x="982800" y="982800"/>
            <a:ext cx="4514760" cy="6243480"/>
            <a:chOff x="982800" y="982800"/>
            <a:chExt cx="4514760" cy="62434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6767280"/>
              <a:ext cx="435960" cy="436320"/>
              <a:chOff x="1005840" y="6767280"/>
              <a:chExt cx="43596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6767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6876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5960" cy="436320"/>
              <a:chOff x="1005840" y="1005840"/>
              <a:chExt cx="43596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5038560" y="1005840"/>
              <a:ext cx="435960" cy="436320"/>
              <a:chOff x="5038560" y="1005840"/>
              <a:chExt cx="43596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514728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503856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5038560" y="6767280"/>
              <a:ext cx="435960" cy="436320"/>
              <a:chOff x="5038560" y="6767280"/>
              <a:chExt cx="43596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5147280" y="6767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5038560" y="6876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3647160"/>
              <a:ext cx="304560" cy="914400"/>
              <a:chOff x="982800" y="364716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4104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3647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5193000" y="3647160"/>
              <a:ext cx="304560" cy="914400"/>
              <a:chOff x="5193000" y="364716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5193000" y="4104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5268960" y="3647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2782800" y="982800"/>
              <a:ext cx="914400" cy="304560"/>
              <a:chOff x="278280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278280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324000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2782800" y="6921720"/>
              <a:ext cx="914400" cy="304560"/>
              <a:chOff x="2782800" y="692172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2782800" y="6997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3240000" y="6921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1" descr="名称未設定-1"/>
          <p:cNvPicPr/>
          <p:nvPr/>
        </p:nvPicPr>
        <p:blipFill>
          <a:blip r:embed="rId1"/>
          <a:stretch/>
        </p:blipFill>
        <p:spPr>
          <a:xfrm>
            <a:off x="3024360" y="1871640"/>
            <a:ext cx="1728720" cy="324000"/>
          </a:xfrm>
          <a:prstGeom prst="rect">
            <a:avLst/>
          </a:prstGeom>
          <a:ln w="0">
            <a:noFill/>
          </a:ln>
        </p:spPr>
      </p:pic>
      <p:sp>
        <p:nvSpPr>
          <p:cNvPr id="68" name="テキスト ボックス 2"/>
          <p:cNvSpPr/>
          <p:nvPr/>
        </p:nvSpPr>
        <p:spPr>
          <a:xfrm>
            <a:off x="2198520" y="150012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HGｺﾞｼｯｸM"/>
                <a:ea typeface="HGｺﾞｼｯｸM"/>
              </a:rPr>
              <a:t>郵便はが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08:23:27Z</dcterms:created>
  <dc:creator/>
  <dc:description/>
  <dc:language>en-US</dc:language>
  <cp:lastModifiedBy/>
  <dcterms:modified xsi:type="dcterms:W3CDTF">2024-08-28T08:23:39Z</dcterms:modified>
  <cp:revision>1</cp:revision>
  <dc:subject/>
  <dc:title/>
</cp:coreProperties>
</file>