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5543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70160" y="685440"/>
            <a:ext cx="4117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D14E-8218-491D-B8EB-E8FB5B9C1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AC87-144D-466C-99CE-D7EF6DDA34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0160" y="685800"/>
            <a:ext cx="4117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5944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588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3300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35944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38588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33000" y="221040"/>
            <a:ext cx="59936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トンボ説明ol"/>
          <p:cNvPicPr/>
          <p:nvPr/>
        </p:nvPicPr>
        <p:blipFill>
          <a:blip r:embed="rId2"/>
          <a:stretch/>
        </p:blipFill>
        <p:spPr>
          <a:xfrm>
            <a:off x="5110200" y="384120"/>
            <a:ext cx="1054080" cy="11653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375000" y="4243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3894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90360" y="108000"/>
            <a:ext cx="401652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90360" y="45529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5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045040" y="4789440"/>
            <a:ext cx="14810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5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643640" cy="3527640"/>
            <a:chOff x="1008000" y="1008000"/>
            <a:chExt cx="4643640" cy="3527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219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27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99564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27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327640" y="1440000"/>
              <a:ext cx="32400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4103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327640" y="4103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4211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4211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421164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19640" y="4211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327640" y="4211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35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4211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219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219640" y="4211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327640" y="1008000"/>
              <a:ext cx="0" cy="35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27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4103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27640" y="4103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421164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333072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287352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3330720" y="4255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2873520" y="4332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5448240" y="2314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5372280" y="2771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1211400" y="2314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982800" y="2771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1:07Z</dcterms:created>
  <dc:creator/>
  <dc:description/>
  <dc:language>en-US</dc:language>
  <cp:lastModifiedBy/>
  <dcterms:modified xsi:type="dcterms:W3CDTF">2020-06-12T18:51:17Z</dcterms:modified>
  <cp:revision>1</cp:revision>
  <dc:subject/>
  <dc:title/>
</cp:coreProperties>
</file>