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C33E-3A3E-4168-B988-17DA349D3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7F2B-9087-4F26-ADB6-A8E4EC905C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3994200" y="392040"/>
            <a:ext cx="1039680" cy="11494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2803680" y="5362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2817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08000" y="90360"/>
            <a:ext cx="381636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0480" y="56689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3889440" y="5945040"/>
            <a:ext cx="153648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3527640" cy="4643640"/>
            <a:chOff x="1008000" y="1008000"/>
            <a:chExt cx="3527640" cy="4643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266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03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211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287964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211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21164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1164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5327640"/>
              <a:ext cx="266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10364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21164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103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0364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1164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352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211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21164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5327640"/>
              <a:ext cx="352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333072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255920" y="333072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433224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3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314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2771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314440" y="544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2771640" y="537228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1:41Z</dcterms:created>
  <dc:creator/>
  <dc:description/>
  <dc:language>en-US</dc:language>
  <cp:lastModifiedBy/>
  <dcterms:modified xsi:type="dcterms:W3CDTF">2020-06-12T18:51:51Z</dcterms:modified>
  <cp:revision>1</cp:revision>
  <dc:subject/>
  <dc:title/>
</cp:coreProperties>
</file>