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5543550" cy="66595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2001960" y="685440"/>
            <a:ext cx="28540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87C3-57E0-4D57-81C2-E89C64BFA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B278-C1F9-4237-845D-692A2BE5B4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2001960" y="685800"/>
            <a:ext cx="285408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49892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77200" y="3575880"/>
            <a:ext cx="49892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7720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283392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964160" y="155844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651120" y="155844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77200" y="357588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1964160" y="357588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3651120" y="357588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77200" y="1558440"/>
            <a:ext cx="49892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49892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77200" y="265680"/>
            <a:ext cx="498924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7720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3392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77200" y="3575880"/>
            <a:ext cx="49892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3994200" y="384120"/>
            <a:ext cx="1050840" cy="116208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2"/>
          <p:cNvSpPr/>
          <p:nvPr/>
        </p:nvSpPr>
        <p:spPr>
          <a:xfrm>
            <a:off x="2803680" y="536256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281772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108000" y="90360"/>
            <a:ext cx="3711600" cy="61128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60480" y="566424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54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85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3997440" y="5923080"/>
            <a:ext cx="144144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54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85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object 2"/>
          <p:cNvGrpSpPr/>
          <p:nvPr/>
        </p:nvGrpSpPr>
        <p:grpSpPr>
          <a:xfrm>
            <a:off x="1008000" y="1008000"/>
            <a:ext cx="3527640" cy="4643640"/>
            <a:chOff x="1008000" y="1008000"/>
            <a:chExt cx="3527640" cy="4643640"/>
          </a:xfrm>
        </p:grpSpPr>
        <p:sp>
          <p:nvSpPr>
            <p:cNvPr id="7" name=""/>
            <p:cNvSpPr/>
            <p:nvPr/>
          </p:nvSpPr>
          <p:spPr>
            <a:xfrm>
              <a:off x="100800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200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08000"/>
              <a:ext cx="2663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10364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21164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800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2000" y="1332000"/>
              <a:ext cx="2879640" cy="39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21164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08000" y="1440000"/>
              <a:ext cx="324000" cy="37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211640" y="1440000"/>
              <a:ext cx="324000" cy="37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08000" y="521964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11640" y="521964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08000" y="532764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32000" y="532764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000" y="5327640"/>
              <a:ext cx="2663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103640" y="532764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4211640" y="532764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32000" y="1008000"/>
              <a:ext cx="0" cy="464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44000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000" y="532764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10364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03640" y="532764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11640" y="1008000"/>
              <a:ext cx="0" cy="464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008000" y="1332000"/>
              <a:ext cx="3527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00800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21164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008000" y="521964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211640" y="521964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008000" y="5327640"/>
              <a:ext cx="3527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" name="object 3"/>
          <p:cNvSpPr/>
          <p:nvPr/>
        </p:nvSpPr>
        <p:spPr>
          <a:xfrm>
            <a:off x="982800" y="333072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object 4"/>
          <p:cNvSpPr/>
          <p:nvPr/>
        </p:nvSpPr>
        <p:spPr>
          <a:xfrm>
            <a:off x="1211400" y="287352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bject 5"/>
          <p:cNvSpPr/>
          <p:nvPr/>
        </p:nvSpPr>
        <p:spPr>
          <a:xfrm>
            <a:off x="4255920" y="3330720"/>
            <a:ext cx="30492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bject 6"/>
          <p:cNvSpPr/>
          <p:nvPr/>
        </p:nvSpPr>
        <p:spPr>
          <a:xfrm>
            <a:off x="4332240" y="287352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399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object 7"/>
          <p:cNvSpPr/>
          <p:nvPr/>
        </p:nvSpPr>
        <p:spPr>
          <a:xfrm>
            <a:off x="231444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object 8"/>
          <p:cNvSpPr/>
          <p:nvPr/>
        </p:nvSpPr>
        <p:spPr>
          <a:xfrm>
            <a:off x="277164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9"/>
          <p:cNvSpPr/>
          <p:nvPr/>
        </p:nvSpPr>
        <p:spPr>
          <a:xfrm>
            <a:off x="2314440" y="544824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10"/>
          <p:cNvSpPr/>
          <p:nvPr/>
        </p:nvSpPr>
        <p:spPr>
          <a:xfrm>
            <a:off x="2771640" y="537228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799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52:05Z</dcterms:created>
  <dc:creator/>
  <dc:description/>
  <dc:language>en-US</dc:language>
  <cp:lastModifiedBy/>
  <dcterms:modified xsi:type="dcterms:W3CDTF">2020-06-12T18:52:14Z</dcterms:modified>
  <cp:revision>1</cp:revision>
  <dc:subject/>
  <dc:title/>
</cp:coreProperties>
</file>