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A6AB-72B1-46B6-929F-9333868F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8151-807E-4349-A25F-A0B43A73AF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11020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62000" y="144360"/>
            <a:ext cx="4083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4520" y="7219800"/>
            <a:ext cx="3355920" cy="92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59440" y="7416720"/>
            <a:ext cx="14652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6191280"/>
            <a:chOff x="1008000" y="1008000"/>
            <a:chExt cx="464364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55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5640"/>
              <a:ext cx="3779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875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537228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544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0" y="0"/>
                </a:moveTo>
                <a:lnTo>
                  <a:pt x="914412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873520" y="699624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914412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33072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9:29Z</dcterms:created>
  <dc:creator/>
  <dc:description/>
  <dc:language>en-US</dc:language>
  <cp:lastModifiedBy/>
  <dcterms:modified xsi:type="dcterms:W3CDTF">2020-06-12T18:49:44Z</dcterms:modified>
  <cp:revision>1</cp:revision>
  <dc:subject/>
  <dc:title/>
</cp:coreProperties>
</file>