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16160" y="685440"/>
            <a:ext cx="422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C0C3-1AC3-4186-83EF-502375FDE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3E5F-CD18-479F-BD58-C2B1197A75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16160" y="685800"/>
            <a:ext cx="4225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6659640" y="385920"/>
            <a:ext cx="1050840" cy="11617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1"/>
          <p:cNvSpPr/>
          <p:nvPr/>
        </p:nvSpPr>
        <p:spPr>
          <a:xfrm>
            <a:off x="4152960" y="5356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2"/>
          <p:cNvSpPr/>
          <p:nvPr/>
        </p:nvSpPr>
        <p:spPr>
          <a:xfrm>
            <a:off x="416736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068560" y="235080"/>
            <a:ext cx="407196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144360" y="5680080"/>
            <a:ext cx="3355920" cy="9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6553080" y="5923080"/>
            <a:ext cx="151128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6191280" cy="4643640"/>
            <a:chOff x="1008000" y="1008000"/>
            <a:chExt cx="6191280" cy="4643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532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67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875640" y="100800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554364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75640" y="1332000"/>
              <a:ext cx="323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875640" y="1440000"/>
              <a:ext cx="32364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75640" y="5219640"/>
              <a:ext cx="323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5327640"/>
              <a:ext cx="532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6764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75640" y="532764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767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76764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87564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6191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75640" y="144000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875640" y="521964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5327640"/>
              <a:ext cx="6191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4103640" y="537228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3646440" y="544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103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3646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121140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982800" y="333072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699624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6919920" y="333072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9:02Z</dcterms:created>
  <dc:creator/>
  <dc:description/>
  <dc:language>en-US</dc:language>
  <cp:lastModifiedBy/>
  <dcterms:modified xsi:type="dcterms:W3CDTF">2020-06-12T18:49:09Z</dcterms:modified>
  <cp:revision>1</cp:revision>
  <dc:subject/>
  <dc:title/>
</cp:coreProperties>
</file>