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47760" y="685440"/>
            <a:ext cx="4362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FA7A-67FA-48CB-9B77-CA69EA6DC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0E1A-9AE7-4F72-AA44-2184969F86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47760" y="685800"/>
            <a:ext cx="436248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8886960" y="38880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5262480" y="6923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52768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3171960" y="287280"/>
            <a:ext cx="40906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90360" y="721368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8839080" y="742968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8423280" cy="6191280"/>
            <a:chOff x="1008000" y="1008000"/>
            <a:chExt cx="8423280" cy="6191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3440" y="100800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7559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99640" y="100800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0584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3440" y="1333440"/>
              <a:ext cx="7772400" cy="55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10584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544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105840" y="1440000"/>
              <a:ext cx="32544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767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105840" y="6767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873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3440" y="687384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873840"/>
              <a:ext cx="7559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999640" y="687384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105840" y="6873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34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3440" y="1440000"/>
              <a:ext cx="0" cy="5327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3440" y="6767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6873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99964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999640" y="6873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1058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105840" y="1440000"/>
              <a:ext cx="0" cy="5327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105840" y="6767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34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3440"/>
              <a:ext cx="7559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999640" y="13334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910584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6767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05840" y="6767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68738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6873840"/>
              <a:ext cx="7559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999640" y="68738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9151920" y="410364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922824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4762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5219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4762440" y="6996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5219640" y="6919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6:43Z</dcterms:created>
  <dc:creator/>
  <dc:description/>
  <dc:language>en-US</dc:language>
  <cp:lastModifiedBy/>
  <dcterms:modified xsi:type="dcterms:W3CDTF">2020-06-12T18:46:54Z</dcterms:modified>
  <cp:revision>1</cp:revision>
  <dc:subject/>
  <dc:title/>
</cp:coreProperties>
</file>