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8207375" cy="10439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2081160" y="685440"/>
            <a:ext cx="2695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0" lang="en-US" sz="51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D76DB-51D2-46A1-BA6C-CDEEE33F1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AB221-B64E-4A4C-ACD8-2288A4C19C2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081160" y="685800"/>
            <a:ext cx="269568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73868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0400" y="5605560"/>
            <a:ext cx="73868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195800" y="24429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10400" y="56055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195800" y="56055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23781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07720" y="2442960"/>
            <a:ext cx="23781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405400" y="2442960"/>
            <a:ext cx="23781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10400" y="5605560"/>
            <a:ext cx="23781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07720" y="5605560"/>
            <a:ext cx="23781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405400" y="5605560"/>
            <a:ext cx="23781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10400" y="2442960"/>
            <a:ext cx="73868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73868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360468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195800" y="2442960"/>
            <a:ext cx="360468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10400" y="416520"/>
            <a:ext cx="73868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95800" y="2442960"/>
            <a:ext cx="360468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10400" y="56055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360468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195800" y="24429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195800" y="56055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95800" y="24429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10400" y="5605560"/>
            <a:ext cx="73868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トンボ説明ol"/>
          <p:cNvPicPr/>
          <p:nvPr/>
        </p:nvPicPr>
        <p:blipFill>
          <a:blip r:embed="rId2"/>
          <a:stretch/>
        </p:blipFill>
        <p:spPr>
          <a:xfrm>
            <a:off x="6657840" y="388800"/>
            <a:ext cx="1051200" cy="1162080"/>
          </a:xfrm>
          <a:prstGeom prst="rect">
            <a:avLst/>
          </a:prstGeom>
          <a:ln w="0">
            <a:noFill/>
          </a:ln>
        </p:spPr>
      </p:pic>
      <p:sp>
        <p:nvSpPr>
          <p:cNvPr id="1" name="AutoShape 50"/>
          <p:cNvSpPr/>
          <p:nvPr/>
        </p:nvSpPr>
        <p:spPr>
          <a:xfrm>
            <a:off x="4157640" y="91407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51"/>
          <p:cNvSpPr/>
          <p:nvPr/>
        </p:nvSpPr>
        <p:spPr>
          <a:xfrm>
            <a:off x="417204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4" descr=""/>
          <p:cNvPicPr/>
          <p:nvPr/>
        </p:nvPicPr>
        <p:blipFill>
          <a:blip r:embed="rId3"/>
          <a:stretch/>
        </p:blipFill>
        <p:spPr>
          <a:xfrm>
            <a:off x="2176560" y="252360"/>
            <a:ext cx="3849480" cy="61128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71280" y="9441000"/>
            <a:ext cx="335628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28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90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6"/>
          <p:cNvSpPr/>
          <p:nvPr/>
        </p:nvSpPr>
        <p:spPr>
          <a:xfrm>
            <a:off x="6692760" y="9732960"/>
            <a:ext cx="144144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228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290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object 2"/>
          <p:cNvGrpSpPr/>
          <p:nvPr/>
        </p:nvGrpSpPr>
        <p:grpSpPr>
          <a:xfrm>
            <a:off x="1008000" y="1008000"/>
            <a:ext cx="6191280" cy="8423280"/>
            <a:chOff x="1008000" y="1008000"/>
            <a:chExt cx="6191280" cy="8423280"/>
          </a:xfrm>
        </p:grpSpPr>
        <p:sp>
          <p:nvSpPr>
            <p:cNvPr id="7" name=""/>
            <p:cNvSpPr/>
            <p:nvPr/>
          </p:nvSpPr>
          <p:spPr>
            <a:xfrm>
              <a:off x="1008000" y="1008000"/>
              <a:ext cx="3254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33440" y="1008000"/>
              <a:ext cx="1065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440000" y="1008000"/>
              <a:ext cx="53276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767640" y="1008000"/>
              <a:ext cx="1062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873840" y="1008000"/>
              <a:ext cx="3254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008000" y="1333440"/>
              <a:ext cx="32544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33440" y="1333440"/>
              <a:ext cx="5540400" cy="777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873840" y="1333440"/>
              <a:ext cx="32544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08000" y="1440000"/>
              <a:ext cx="325440" cy="75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873840" y="1440000"/>
              <a:ext cx="325440" cy="75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008000" y="8999640"/>
              <a:ext cx="32544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6873840" y="8999640"/>
              <a:ext cx="32544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008000" y="9105840"/>
              <a:ext cx="3254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33440" y="9105840"/>
              <a:ext cx="1065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440000" y="9105840"/>
              <a:ext cx="53276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6767640" y="9105840"/>
              <a:ext cx="1062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6873840" y="9105840"/>
              <a:ext cx="3254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33440" y="1008000"/>
              <a:ext cx="0" cy="432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333440" y="1440000"/>
              <a:ext cx="0" cy="7559640"/>
            </a:xfrm>
            <a:prstGeom prst="line">
              <a:avLst/>
            </a:prstGeom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333440" y="8999640"/>
              <a:ext cx="0" cy="431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000" y="1008000"/>
              <a:ext cx="0" cy="32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000" y="9105840"/>
              <a:ext cx="0" cy="32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6767640" y="1008000"/>
              <a:ext cx="0" cy="32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67640" y="9105840"/>
              <a:ext cx="0" cy="32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73840" y="1008000"/>
              <a:ext cx="0" cy="432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873840" y="1440000"/>
              <a:ext cx="0" cy="7559640"/>
            </a:xfrm>
            <a:prstGeom prst="line">
              <a:avLst/>
            </a:prstGeom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73840" y="8999640"/>
              <a:ext cx="0" cy="431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1008000" y="1333440"/>
              <a:ext cx="432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1440000" y="1333440"/>
              <a:ext cx="5327640" cy="0"/>
            </a:xfrm>
            <a:prstGeom prst="line">
              <a:avLst/>
            </a:prstGeom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6767640" y="1333440"/>
              <a:ext cx="431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008000" y="1440000"/>
              <a:ext cx="3254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6873840" y="1440000"/>
              <a:ext cx="3254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008000" y="8999640"/>
              <a:ext cx="3254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6873840" y="8999640"/>
              <a:ext cx="3254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008000" y="9105840"/>
              <a:ext cx="432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440000" y="9105840"/>
              <a:ext cx="5327640" cy="0"/>
            </a:xfrm>
            <a:prstGeom prst="line">
              <a:avLst/>
            </a:prstGeom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767640" y="9105840"/>
              <a:ext cx="431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object 3"/>
          <p:cNvSpPr/>
          <p:nvPr/>
        </p:nvSpPr>
        <p:spPr>
          <a:xfrm>
            <a:off x="982800" y="5219640"/>
            <a:ext cx="30456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0" y="0"/>
                </a:moveTo>
                <a:lnTo>
                  <a:pt x="3048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ject 4"/>
          <p:cNvSpPr/>
          <p:nvPr/>
        </p:nvSpPr>
        <p:spPr>
          <a:xfrm>
            <a:off x="1211400" y="476244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0"/>
                </a:moveTo>
                <a:lnTo>
                  <a:pt x="0" y="9144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ject 5"/>
          <p:cNvSpPr/>
          <p:nvPr/>
        </p:nvSpPr>
        <p:spPr>
          <a:xfrm>
            <a:off x="6919920" y="5219640"/>
            <a:ext cx="30492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3048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ject 6"/>
          <p:cNvSpPr/>
          <p:nvPr/>
        </p:nvSpPr>
        <p:spPr>
          <a:xfrm>
            <a:off x="6996240" y="476244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91440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ject 7"/>
          <p:cNvSpPr/>
          <p:nvPr/>
        </p:nvSpPr>
        <p:spPr>
          <a:xfrm>
            <a:off x="3646440" y="121140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0" y="0"/>
                </a:moveTo>
                <a:lnTo>
                  <a:pt x="9144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ject 8"/>
          <p:cNvSpPr/>
          <p:nvPr/>
        </p:nvSpPr>
        <p:spPr>
          <a:xfrm>
            <a:off x="4103640" y="982800"/>
            <a:ext cx="360" cy="30456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0"/>
                </a:moveTo>
                <a:lnTo>
                  <a:pt x="0" y="3048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bject 9"/>
          <p:cNvSpPr/>
          <p:nvPr/>
        </p:nvSpPr>
        <p:spPr>
          <a:xfrm>
            <a:off x="3646440" y="922824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9144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bject 10"/>
          <p:cNvSpPr/>
          <p:nvPr/>
        </p:nvSpPr>
        <p:spPr>
          <a:xfrm>
            <a:off x="4103640" y="9151920"/>
            <a:ext cx="360" cy="30492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304799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8:47:15Z</dcterms:created>
  <dc:creator/>
  <dc:description/>
  <dc:language>en-US</dc:language>
  <cp:lastModifiedBy/>
  <dcterms:modified xsi:type="dcterms:W3CDTF">2020-06-12T18:47:25Z</dcterms:modified>
  <cp:revision>1</cp:revision>
  <dc:subject/>
  <dc:title/>
</cp:coreProperties>
</file>