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B5C-2AC0-4609-89F9-C4ECA7F2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C228-BABA-4E02-AA86-EFA138691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640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8840" y="252360"/>
            <a:ext cx="40849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536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51Z</dcterms:created>
  <dc:creator/>
  <dc:description/>
  <dc:language>en-US</dc:language>
  <cp:lastModifiedBy/>
  <dcterms:modified xsi:type="dcterms:W3CDTF">2020-06-12T18:48:02Z</dcterms:modified>
  <cp:revision>1</cp:revision>
  <dc:subject/>
  <dc:title/>
</cp:coreProperties>
</file>