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C09-0495-406F-937B-AE26EFF4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2CA-3ABE-45A5-84BE-173C18245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88851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3151080" y="233280"/>
            <a:ext cx="41338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82440" y="12579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8869320" y="128062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3:20Z</dcterms:created>
  <dc:creator/>
  <dc:description/>
  <dc:language>en-US</dc:language>
  <cp:lastModifiedBy/>
  <dcterms:modified xsi:type="dcterms:W3CDTF">2024-08-15T19:08:16Z</dcterms:modified>
  <cp:revision>1</cp:revision>
  <dc:subject/>
  <dc:title/>
</cp:coreProperties>
</file>