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571538" cy="180038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2136600" y="685440"/>
            <a:ext cx="258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en-US" sz="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1A92-AEE3-4DC0-8292-BE6D0FA6F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EC89-E7D2-4449-8186-7C9D12AA72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2136600" y="685800"/>
            <a:ext cx="25848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122144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78600" y="9666360"/>
            <a:ext cx="122144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860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93756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08160" y="421272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938080" y="421272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78600" y="966636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4808160" y="966636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8938080" y="966636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678600" y="4212720"/>
            <a:ext cx="1221444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1221444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678600" y="718200"/>
            <a:ext cx="12214440" cy="139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860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93756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78600" y="9666360"/>
            <a:ext cx="122144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トンボ説明ol"/>
          <p:cNvPicPr/>
          <p:nvPr/>
        </p:nvPicPr>
        <p:blipFill>
          <a:blip r:embed="rId2"/>
          <a:stretch/>
        </p:blipFill>
        <p:spPr>
          <a:xfrm>
            <a:off x="12020400" y="387360"/>
            <a:ext cx="1051200" cy="116208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6843600" y="1671336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685800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5" descr=""/>
          <p:cNvPicPr/>
          <p:nvPr/>
        </p:nvPicPr>
        <p:blipFill>
          <a:blip r:embed="rId3"/>
          <a:stretch/>
        </p:blipFill>
        <p:spPr>
          <a:xfrm>
            <a:off x="4711680" y="216000"/>
            <a:ext cx="414180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2577960" y="17006760"/>
            <a:ext cx="3356280" cy="97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500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7"/>
          <p:cNvSpPr/>
          <p:nvPr/>
        </p:nvSpPr>
        <p:spPr>
          <a:xfrm>
            <a:off x="8669160" y="17111520"/>
            <a:ext cx="144180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500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6"/>
          <p:cNvGrpSpPr/>
          <p:nvPr/>
        </p:nvGrpSpPr>
        <p:grpSpPr>
          <a:xfrm>
            <a:off x="982800" y="984240"/>
            <a:ext cx="11607840" cy="16033680"/>
            <a:chOff x="982800" y="984240"/>
            <a:chExt cx="11607840" cy="16033680"/>
          </a:xfrm>
        </p:grpSpPr>
        <p:grpSp>
          <p:nvGrpSpPr>
            <p:cNvPr id="7" name="object 2"/>
            <p:cNvGrpSpPr/>
            <p:nvPr/>
          </p:nvGrpSpPr>
          <p:grpSpPr>
            <a:xfrm>
              <a:off x="1005840" y="16558920"/>
              <a:ext cx="435960" cy="435960"/>
              <a:chOff x="1005840" y="16558920"/>
              <a:chExt cx="435960" cy="43596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5840" y="1655892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5840" y="166676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5840" y="1007280"/>
              <a:ext cx="435960" cy="435960"/>
              <a:chOff x="1005840" y="1007280"/>
              <a:chExt cx="435960" cy="43596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5840" y="1007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5840" y="100728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12131640" y="1007280"/>
              <a:ext cx="435960" cy="435960"/>
              <a:chOff x="12131640" y="1007280"/>
              <a:chExt cx="435960" cy="43596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12240360" y="1007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12131640" y="100728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12131640" y="16558920"/>
              <a:ext cx="435960" cy="435960"/>
              <a:chOff x="12131640" y="16558920"/>
              <a:chExt cx="435960" cy="43596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12240360" y="1655892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12131640" y="166676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2800" y="8543880"/>
              <a:ext cx="304560" cy="914040"/>
              <a:chOff x="982800" y="8543880"/>
              <a:chExt cx="304560" cy="91404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2800" y="9000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1400" y="854388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12286080" y="8543880"/>
              <a:ext cx="304560" cy="914040"/>
              <a:chOff x="12286080" y="8543880"/>
              <a:chExt cx="304560" cy="91404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12286080" y="9000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12362040" y="854388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6329520" y="984240"/>
              <a:ext cx="914400" cy="304560"/>
              <a:chOff x="6329520" y="984240"/>
              <a:chExt cx="91440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6329520" y="12128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6786720" y="98424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6329520" y="16713360"/>
              <a:ext cx="914400" cy="304560"/>
              <a:chOff x="6329520" y="16713360"/>
              <a:chExt cx="91440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6329520" y="1678932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6786720" y="1671336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40:44Z</dcterms:created>
  <dc:creator/>
  <dc:description/>
  <dc:language>en-US</dc:language>
  <cp:lastModifiedBy/>
  <dcterms:modified xsi:type="dcterms:W3CDTF">2024-08-15T19:28:46Z</dcterms:modified>
  <cp:revision>1</cp:revision>
  <dc:subject/>
  <dc:title/>
</cp:coreProperties>
</file>