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B78F-6FFC-40DC-B548-B636DCF20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CE79-7E33-4D81-A22A-B633FC899C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6448040" y="38736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1"/>
          <p:cNvSpPr/>
          <p:nvPr/>
        </p:nvSpPr>
        <p:spPr>
          <a:xfrm>
            <a:off x="9072720" y="122968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2"/>
          <p:cNvSpPr/>
          <p:nvPr/>
        </p:nvSpPr>
        <p:spPr>
          <a:xfrm>
            <a:off x="906300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7048440" y="233280"/>
            <a:ext cx="40482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4373640" y="125856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464840" y="125906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6033680" cy="11607840"/>
            <a:chOff x="984240" y="982800"/>
            <a:chExt cx="160336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2131640"/>
              <a:ext cx="435960" cy="435960"/>
              <a:chOff x="100728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5960"/>
              <a:chOff x="100728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6558920" y="1005840"/>
              <a:ext cx="435960" cy="435960"/>
              <a:chOff x="1655892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66676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655892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6558920" y="12131640"/>
              <a:ext cx="435960" cy="435960"/>
              <a:chOff x="1655892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66676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655892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6329520"/>
              <a:ext cx="304560" cy="914400"/>
              <a:chOff x="98424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6713360" y="6329520"/>
              <a:ext cx="304560" cy="914400"/>
              <a:chOff x="1671336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671336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678932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8543880" y="982800"/>
              <a:ext cx="914040" cy="304560"/>
              <a:chOff x="8543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8543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900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8543880" y="12286080"/>
              <a:ext cx="914040" cy="304560"/>
              <a:chOff x="8543880" y="1228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8543880" y="1236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900072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38:51Z</dcterms:created>
  <dc:creator/>
  <dc:description/>
  <dc:language>en-US</dc:language>
  <cp:lastModifiedBy/>
  <dcterms:modified xsi:type="dcterms:W3CDTF">2024-08-15T19:24:15Z</dcterms:modified>
  <cp:revision>1</cp:revision>
  <dc:subject/>
  <dc:title/>
</cp:coreProperties>
</file>