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220C-F486-4D73-9991-04548F39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D3A0-F68B-4E50-AEE5-298719FC5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548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4240" y="92160"/>
            <a:ext cx="4052880" cy="612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893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46Z</dcterms:created>
  <dc:creator/>
  <dc:description/>
  <dc:language>en-US</dc:language>
  <cp:lastModifiedBy/>
  <dcterms:modified xsi:type="dcterms:W3CDTF">2020-06-12T19:22:59Z</dcterms:modified>
  <cp:revision>1</cp:revision>
  <dc:subject/>
  <dc:title/>
</cp:coreProperties>
</file>