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643A-9B23-49B0-85B5-167B7F58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A0A-1C8B-421C-9948-028A16961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60692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104760" y="106200"/>
            <a:ext cx="4070520" cy="6130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5160" y="41911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4140360" cy="3168720"/>
            <a:chOff x="1008000" y="1008000"/>
            <a:chExt cx="4140360" cy="316872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34923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2436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2436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385272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71636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2436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636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2436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2436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385272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078000" y="389556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2620800" y="397188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494496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48690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121140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9828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23Z</dcterms:created>
  <dc:creator/>
  <dc:description/>
  <dc:language>en-US</dc:language>
  <cp:lastModifiedBy/>
  <dcterms:modified xsi:type="dcterms:W3CDTF">2020-06-12T19:22:33Z</dcterms:modified>
  <cp:revision>1</cp:revision>
  <dc:subject/>
  <dc:title/>
</cp:coreProperties>
</file>