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3F7-832F-4397-85B7-F0B6E1D3F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D5BC-7FE8-48EF-BDF1-83973403CA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3633840" y="39528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82440" y="88920"/>
            <a:ext cx="3490920" cy="528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1920" y="516096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3167280" cy="4140360"/>
            <a:chOff x="1008000" y="1008000"/>
            <a:chExt cx="3167280" cy="414036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4328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51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25192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51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5128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85128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482436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74328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5128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4328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74328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5128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51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5128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482436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89556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397188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2135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2592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213516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259236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3:14Z</dcterms:created>
  <dc:creator/>
  <dc:description/>
  <dc:language>en-US</dc:language>
  <cp:lastModifiedBy/>
  <dcterms:modified xsi:type="dcterms:W3CDTF">2020-06-12T19:23:22Z</dcterms:modified>
  <cp:revision>1</cp:revision>
  <dc:subject/>
  <dc:title/>
</cp:coreProperties>
</file>