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08B-0E58-4BAA-8FED-6BC6F89A6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6480-ADA9-4D01-B70D-35D3C571C4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938920" y="40176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724040" y="270000"/>
            <a:ext cx="404172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3600" y="516240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911920" y="543708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5470560" cy="4140360"/>
            <a:chOff x="1008000" y="1008000"/>
            <a:chExt cx="5470560" cy="414036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4692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545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482256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545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15456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5456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82436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46920" y="482436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15456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4692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04692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15456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1545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15456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82436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74328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28608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74328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28608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627696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620064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22Z</dcterms:created>
  <dc:creator/>
  <dc:description/>
  <dc:language>en-US</dc:language>
  <cp:lastModifiedBy/>
  <dcterms:modified xsi:type="dcterms:W3CDTF">2020-06-12T18:58:31Z</dcterms:modified>
  <cp:revision>1</cp:revision>
  <dc:subject/>
  <dc:title/>
</cp:coreProperties>
</file>