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7491413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343160" y="685440"/>
            <a:ext cx="4171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0FD8-1601-4D61-BFC4-823ED1044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72F1-0E25-438F-A6E4-0D2E314B4D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43160" y="685800"/>
            <a:ext cx="417168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65428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338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744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65428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9338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74400" y="245520"/>
            <a:ext cx="674208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5938920" y="40176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3787920" y="48610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38019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712880" y="270000"/>
            <a:ext cx="4057560" cy="6109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93600" y="518004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5911920" y="543708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0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5470560" cy="4140360"/>
            <a:chOff x="1008000" y="1008000"/>
            <a:chExt cx="5470560" cy="414036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46069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46920" y="1008000"/>
              <a:ext cx="10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5456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4822560" cy="34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15456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154560" y="1440000"/>
              <a:ext cx="32400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4716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154560" y="4716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48243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482436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4824360"/>
              <a:ext cx="46069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046920" y="4824360"/>
              <a:ext cx="10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154560" y="48243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414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482436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604692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046920" y="482436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154560" y="1008000"/>
              <a:ext cx="0" cy="414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5470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15456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4716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154560" y="4716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4824360"/>
              <a:ext cx="5470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374328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328608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3743280" y="48690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3286080" y="494496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6276960" y="262080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6200640" y="307800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1211400" y="262080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982800" y="307800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8:02Z</dcterms:created>
  <dc:creator/>
  <dc:description/>
  <dc:language>en-US</dc:language>
  <cp:lastModifiedBy/>
  <dcterms:modified xsi:type="dcterms:W3CDTF">2020-06-12T18:58:09Z</dcterms:modified>
  <cp:revision>1</cp:revision>
  <dc:subject/>
  <dc:title/>
</cp:coreProperties>
</file>