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236B-6FDC-420C-9223-F52BD4916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CADC-45F4-48DD-9328-6C0A2D08E6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4600440" y="39672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121200" y="6216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92160" y="87480"/>
            <a:ext cx="405756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0480" y="65088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4592520" y="68007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140360" cy="5472000"/>
            <a:chOff x="1008000" y="1008000"/>
            <a:chExt cx="4140360" cy="547200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1636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8243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49236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243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2436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82436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156360"/>
              <a:ext cx="3276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71636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82436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54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71636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71636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824360" y="1008000"/>
              <a:ext cx="0" cy="54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8243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82436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615636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8690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494496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62080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07800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620800" y="6276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078000" y="620064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8:45Z</dcterms:created>
  <dc:creator/>
  <dc:description/>
  <dc:language>en-US</dc:language>
  <cp:lastModifiedBy/>
  <dcterms:modified xsi:type="dcterms:W3CDTF">2020-06-12T18:58:53Z</dcterms:modified>
  <cp:revision>1</cp:revision>
  <dc:subject/>
  <dc:title/>
</cp:coreProperties>
</file>