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70A8-CE79-4284-8EC7-DE04105B3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0D1B-628B-427E-A629-2928F7B7D2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4600440" y="39672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01520" y="98280"/>
            <a:ext cx="4041720" cy="6130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64944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4592520" y="68007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140360" cy="5472000"/>
            <a:chOff x="1008000" y="1008000"/>
            <a:chExt cx="414036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49236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2436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2436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3276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71636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82436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82436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82436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15636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8690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94496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62080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07800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2:00Z</dcterms:created>
  <dc:creator/>
  <dc:description/>
  <dc:language>en-US</dc:language>
  <cp:lastModifiedBy/>
  <dcterms:modified xsi:type="dcterms:W3CDTF">2020-06-12T19:22:08Z</dcterms:modified>
  <cp:revision>1</cp:revision>
  <dc:subject/>
  <dc:title/>
</cp:coreProperties>
</file>