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491413" cy="94313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74400" y="376200"/>
            <a:ext cx="67420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74400" y="2206800"/>
            <a:ext cx="674208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74400" y="5064120"/>
            <a:ext cx="674208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74400" y="376200"/>
            <a:ext cx="67420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74400" y="2206800"/>
            <a:ext cx="32900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29320" y="2206800"/>
            <a:ext cx="32900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74400" y="5064120"/>
            <a:ext cx="32900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3829320" y="5064120"/>
            <a:ext cx="32900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74400" y="376200"/>
            <a:ext cx="67420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74400" y="2206800"/>
            <a:ext cx="21708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654280" y="2206800"/>
            <a:ext cx="21708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33800" y="2206800"/>
            <a:ext cx="21708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74400" y="5064120"/>
            <a:ext cx="21708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2654280" y="5064120"/>
            <a:ext cx="21708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4933800" y="5064120"/>
            <a:ext cx="21708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74400" y="376200"/>
            <a:ext cx="67420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74400" y="2206800"/>
            <a:ext cx="674208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74400" y="376200"/>
            <a:ext cx="67420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74400" y="2206800"/>
            <a:ext cx="674208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4400" y="376200"/>
            <a:ext cx="67420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74400" y="2206800"/>
            <a:ext cx="329004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829320" y="2206800"/>
            <a:ext cx="329004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74400" y="376200"/>
            <a:ext cx="67420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74400" y="376200"/>
            <a:ext cx="6742080" cy="73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74400" y="376200"/>
            <a:ext cx="67420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74400" y="2206800"/>
            <a:ext cx="32900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829320" y="2206800"/>
            <a:ext cx="329004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74400" y="5064120"/>
            <a:ext cx="32900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74400" y="376200"/>
            <a:ext cx="67420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74400" y="2206800"/>
            <a:ext cx="329004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29320" y="2206800"/>
            <a:ext cx="32900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29320" y="5064120"/>
            <a:ext cx="32900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74400" y="376200"/>
            <a:ext cx="67420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74400" y="2206800"/>
            <a:ext cx="32900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829320" y="2206800"/>
            <a:ext cx="32900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74400" y="5064120"/>
            <a:ext cx="674208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トンボ説明ol"/>
          <p:cNvPicPr/>
          <p:nvPr/>
        </p:nvPicPr>
        <p:blipFill>
          <a:blip r:embed="rId2"/>
          <a:stretch/>
        </p:blipFill>
        <p:spPr>
          <a:xfrm>
            <a:off x="5938920" y="390600"/>
            <a:ext cx="1039680" cy="1150920"/>
          </a:xfrm>
          <a:prstGeom prst="rect">
            <a:avLst/>
          </a:prstGeom>
          <a:ln w="0">
            <a:noFill/>
          </a:ln>
        </p:spPr>
      </p:pic>
      <p:sp>
        <p:nvSpPr>
          <p:cNvPr id="1" name="AutoShape 45"/>
          <p:cNvSpPr/>
          <p:nvPr/>
        </p:nvSpPr>
        <p:spPr>
          <a:xfrm>
            <a:off x="3773520" y="81327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46"/>
          <p:cNvSpPr/>
          <p:nvPr/>
        </p:nvSpPr>
        <p:spPr>
          <a:xfrm>
            <a:off x="378792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4" descr=""/>
          <p:cNvPicPr/>
          <p:nvPr/>
        </p:nvPicPr>
        <p:blipFill>
          <a:blip r:embed="rId3"/>
          <a:stretch/>
        </p:blipFill>
        <p:spPr>
          <a:xfrm>
            <a:off x="1727280" y="179280"/>
            <a:ext cx="4029120" cy="61272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63360" y="8442360"/>
            <a:ext cx="335628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08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62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6"/>
          <p:cNvSpPr/>
          <p:nvPr/>
        </p:nvSpPr>
        <p:spPr>
          <a:xfrm>
            <a:off x="5929200" y="8744040"/>
            <a:ext cx="149076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208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262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object 2"/>
          <p:cNvGrpSpPr/>
          <p:nvPr/>
        </p:nvGrpSpPr>
        <p:grpSpPr>
          <a:xfrm>
            <a:off x="1008000" y="1008000"/>
            <a:ext cx="5470560" cy="7415280"/>
            <a:chOff x="1008000" y="1008000"/>
            <a:chExt cx="5470560" cy="7415280"/>
          </a:xfrm>
        </p:grpSpPr>
        <p:sp>
          <p:nvSpPr>
            <p:cNvPr id="7" name=""/>
            <p:cNvSpPr/>
            <p:nvPr/>
          </p:nvSpPr>
          <p:spPr>
            <a:xfrm>
              <a:off x="1008000" y="10080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332000" y="100800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440000" y="1008000"/>
              <a:ext cx="46069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46920" y="1008000"/>
              <a:ext cx="107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154560" y="10080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008000" y="133200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32000" y="1332000"/>
              <a:ext cx="4822560" cy="67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154560" y="133200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08000" y="1440000"/>
              <a:ext cx="324000" cy="65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154560" y="1440000"/>
              <a:ext cx="324000" cy="65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008000" y="7991640"/>
              <a:ext cx="324000" cy="1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6154560" y="7991640"/>
              <a:ext cx="324000" cy="1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008000" y="809928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32000" y="809928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440000" y="8099280"/>
              <a:ext cx="46069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6046920" y="8099280"/>
              <a:ext cx="107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6154560" y="809928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32000" y="1008000"/>
              <a:ext cx="0" cy="7415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44000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000" y="809928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604692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6046920" y="809928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6154560" y="1008000"/>
              <a:ext cx="0" cy="7415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1008000" y="1332000"/>
              <a:ext cx="54705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008000" y="144000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154560" y="144000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008000" y="799164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154560" y="799164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1008000" y="8099280"/>
              <a:ext cx="54705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" name="object 3"/>
          <p:cNvSpPr/>
          <p:nvPr/>
        </p:nvSpPr>
        <p:spPr>
          <a:xfrm>
            <a:off x="982800" y="4716360"/>
            <a:ext cx="30456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0" y="0"/>
                </a:moveTo>
                <a:lnTo>
                  <a:pt x="3048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object 4"/>
          <p:cNvSpPr/>
          <p:nvPr/>
        </p:nvSpPr>
        <p:spPr>
          <a:xfrm>
            <a:off x="1211400" y="425916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0"/>
                </a:moveTo>
                <a:lnTo>
                  <a:pt x="0" y="9144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object 5"/>
          <p:cNvSpPr/>
          <p:nvPr/>
        </p:nvSpPr>
        <p:spPr>
          <a:xfrm>
            <a:off x="6200640" y="4716360"/>
            <a:ext cx="30492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3048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object 6"/>
          <p:cNvSpPr/>
          <p:nvPr/>
        </p:nvSpPr>
        <p:spPr>
          <a:xfrm>
            <a:off x="6276960" y="425916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91440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object 7"/>
          <p:cNvSpPr/>
          <p:nvPr/>
        </p:nvSpPr>
        <p:spPr>
          <a:xfrm>
            <a:off x="3286080" y="121140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0" y="0"/>
                </a:moveTo>
                <a:lnTo>
                  <a:pt x="9144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object 8"/>
          <p:cNvSpPr/>
          <p:nvPr/>
        </p:nvSpPr>
        <p:spPr>
          <a:xfrm>
            <a:off x="3743280" y="982800"/>
            <a:ext cx="360" cy="30456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0"/>
                </a:moveTo>
                <a:lnTo>
                  <a:pt x="0" y="3048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ject 9"/>
          <p:cNvSpPr/>
          <p:nvPr/>
        </p:nvSpPr>
        <p:spPr>
          <a:xfrm>
            <a:off x="3286080" y="822024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9144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ject 10"/>
          <p:cNvSpPr/>
          <p:nvPr/>
        </p:nvSpPr>
        <p:spPr>
          <a:xfrm>
            <a:off x="3743280" y="8143920"/>
            <a:ext cx="360" cy="30492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304799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8:57:35Z</dcterms:created>
  <dc:creator/>
  <dc:description/>
  <dc:language>en-US</dc:language>
  <cp:lastModifiedBy/>
  <dcterms:modified xsi:type="dcterms:W3CDTF">2020-06-12T19:21:30Z</dcterms:modified>
  <cp:revision>1</cp:revision>
  <dc:subject/>
  <dc:title/>
</cp:coreProperties>
</file>