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31675" cy="94313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1224000" y="685440"/>
            <a:ext cx="4410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0461-30EA-44C8-871F-05EF535E9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084E-8C8C-4135-B7F2-DFCE3BA4E7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224000" y="685800"/>
            <a:ext cx="4410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109184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06600" y="5064120"/>
            <a:ext cx="109184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660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20136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98040" y="220680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989840" y="220680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06600" y="506412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4298040" y="506412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7989840" y="506412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606600" y="2206800"/>
            <a:ext cx="109184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109184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606600" y="376200"/>
            <a:ext cx="10918440" cy="73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660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0136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6600" y="5064120"/>
            <a:ext cx="109184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10584000" y="39384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6086520" y="8156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6100920" y="100800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4043520" y="179280"/>
            <a:ext cx="397800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2027160" y="843444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37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62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7572240" y="865980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337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62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6"/>
          <p:cNvGrpSpPr/>
          <p:nvPr/>
        </p:nvGrpSpPr>
        <p:grpSpPr>
          <a:xfrm>
            <a:off x="982800" y="982800"/>
            <a:ext cx="10167840" cy="7467480"/>
            <a:chOff x="982800" y="982800"/>
            <a:chExt cx="10167840" cy="7467480"/>
          </a:xfrm>
        </p:grpSpPr>
        <p:grpSp>
          <p:nvGrpSpPr>
            <p:cNvPr id="7" name="object 2"/>
            <p:cNvGrpSpPr/>
            <p:nvPr/>
          </p:nvGrpSpPr>
          <p:grpSpPr>
            <a:xfrm>
              <a:off x="1005840" y="7991280"/>
              <a:ext cx="436320" cy="436320"/>
              <a:chOff x="1005840" y="7991280"/>
              <a:chExt cx="436320" cy="43632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5840" y="799128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5840" y="810000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5840" y="1005840"/>
              <a:ext cx="436320" cy="436320"/>
              <a:chOff x="1005840" y="1005840"/>
              <a:chExt cx="436320" cy="43632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584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584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10691640" y="1005840"/>
              <a:ext cx="436320" cy="436320"/>
              <a:chOff x="10691640" y="1005840"/>
              <a:chExt cx="436320" cy="43632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1080036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1069164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10691640" y="7991280"/>
              <a:ext cx="436320" cy="436320"/>
              <a:chOff x="10691640" y="7991280"/>
              <a:chExt cx="436320" cy="43632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10800360" y="799128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10691640" y="810000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2800" y="4259160"/>
              <a:ext cx="304560" cy="914400"/>
              <a:chOff x="982800" y="4259160"/>
              <a:chExt cx="304560" cy="91440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2800" y="4716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1400" y="4259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10846080" y="4259160"/>
              <a:ext cx="304560" cy="914400"/>
              <a:chOff x="10846080" y="4259160"/>
              <a:chExt cx="304560" cy="91440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10846080" y="4716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10922040" y="4259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5609520" y="982800"/>
              <a:ext cx="914400" cy="304560"/>
              <a:chOff x="5609520" y="982800"/>
              <a:chExt cx="91440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560952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6066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5609520" y="8145720"/>
              <a:ext cx="914400" cy="304560"/>
              <a:chOff x="5609520" y="8145720"/>
              <a:chExt cx="91440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5609520" y="8221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6066720" y="8145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4:15Z</dcterms:created>
  <dc:creator/>
  <dc:description/>
  <dc:language>en-US</dc:language>
  <cp:lastModifiedBy/>
  <dcterms:modified xsi:type="dcterms:W3CDTF">2024-08-15T20:00:21Z</dcterms:modified>
  <cp:revision>1</cp:revision>
  <dc:subject/>
  <dc:title/>
</cp:coreProperties>
</file>