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E2EA-3654-4ED8-BA3F-8E0DA864F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DD75-ABC4-4ACA-AA47-961D08D7D4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78960" y="39384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17960" y="179280"/>
            <a:ext cx="4029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027160" y="84344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572240" y="86598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0167840" cy="7467480"/>
            <a:chOff x="982800" y="982800"/>
            <a:chExt cx="10167840" cy="7467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7991280"/>
              <a:ext cx="436320" cy="436320"/>
              <a:chOff x="1005840" y="799128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5840"/>
              <a:ext cx="436320" cy="436320"/>
              <a:chOff x="1069164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7991280"/>
              <a:ext cx="436320" cy="436320"/>
              <a:chOff x="10691640" y="799128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259160"/>
              <a:ext cx="304560" cy="914400"/>
              <a:chOff x="982800" y="4259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4259160"/>
              <a:ext cx="304560" cy="914400"/>
              <a:chOff x="10846080" y="4259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2800"/>
              <a:ext cx="914400" cy="304560"/>
              <a:chOff x="560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8145720"/>
              <a:ext cx="914400" cy="304560"/>
              <a:chOff x="5609520" y="8145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822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4:41Z</dcterms:created>
  <dc:creator/>
  <dc:description/>
  <dc:language>en-US</dc:language>
  <cp:lastModifiedBy/>
  <dcterms:modified xsi:type="dcterms:W3CDTF">2024-08-15T20:04:23Z</dcterms:modified>
  <cp:revision>1</cp:revision>
  <dc:subject/>
  <dc:title/>
</cp:coreProperties>
</file>