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431338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095560" y="685440"/>
            <a:ext cx="2666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9F2A-DADB-427C-9634-65417FAD9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C072-8329-4A3A-931F-FFDB158965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095560" y="685800"/>
            <a:ext cx="266688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4188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118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716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4188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2118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71600" y="483840"/>
            <a:ext cx="848844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7885080" y="39384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4753080" y="10852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47671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2668680" y="162000"/>
            <a:ext cx="408924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3360" y="111427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62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7880400" y="1144440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62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2800"/>
            <a:ext cx="7467480" cy="10167840"/>
            <a:chOff x="982800" y="982800"/>
            <a:chExt cx="7467480" cy="1016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0691640"/>
              <a:ext cx="436320" cy="436320"/>
              <a:chOff x="1005840" y="10691640"/>
              <a:chExt cx="43632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0691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0800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7991280" y="1005840"/>
              <a:ext cx="436320" cy="436320"/>
              <a:chOff x="7991280" y="1005840"/>
              <a:chExt cx="43632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810000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799128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7991280" y="10691640"/>
              <a:ext cx="436320" cy="436320"/>
              <a:chOff x="7991280" y="10691640"/>
              <a:chExt cx="43632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8100000" y="10691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7991280" y="10800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5609520"/>
              <a:ext cx="304560" cy="914400"/>
              <a:chOff x="982800" y="560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8145720" y="5609520"/>
              <a:ext cx="304560" cy="914400"/>
              <a:chOff x="8145720" y="560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814572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822168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4259160" y="982800"/>
              <a:ext cx="914400" cy="304560"/>
              <a:chOff x="425916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4259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4716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4259160" y="10846080"/>
              <a:ext cx="914400" cy="304560"/>
              <a:chOff x="4259160" y="1084608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4259160" y="1092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4716360" y="1084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5:40Z</dcterms:created>
  <dc:creator/>
  <dc:description/>
  <dc:language>en-US</dc:language>
  <cp:lastModifiedBy/>
  <dcterms:modified xsi:type="dcterms:W3CDTF">2024-08-15T20:13:32Z</dcterms:modified>
  <cp:revision>1</cp:revision>
  <dc:subject/>
  <dc:title/>
</cp:coreProperties>
</file>