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0DE7-5AEC-4AC2-8379-30D85E8CA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F81E-4F11-44D2-B406-AA2D0E3D2B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443204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5970600" y="233280"/>
            <a:ext cx="403524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868480" y="111474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294920" y="114300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4017680" cy="10167840"/>
            <a:chOff x="984240" y="982800"/>
            <a:chExt cx="140176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0691640"/>
              <a:ext cx="435960" cy="436320"/>
              <a:chOff x="1007280" y="10691640"/>
              <a:chExt cx="43596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6320"/>
              <a:chOff x="1007280" y="1005840"/>
              <a:chExt cx="43596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4542920" y="1005840"/>
              <a:ext cx="435960" cy="436320"/>
              <a:chOff x="14542920" y="1005840"/>
              <a:chExt cx="43596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46516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454292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4542920" y="10691640"/>
              <a:ext cx="435960" cy="436320"/>
              <a:chOff x="14542920" y="10691640"/>
              <a:chExt cx="43596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465164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454292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5609520"/>
              <a:ext cx="304560" cy="914400"/>
              <a:chOff x="98424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4697360" y="5609520"/>
              <a:ext cx="304560" cy="914400"/>
              <a:chOff x="1469736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469736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477332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7535880" y="982800"/>
              <a:ext cx="914040" cy="304560"/>
              <a:chOff x="7535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7535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7992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7535880" y="10846080"/>
              <a:ext cx="914040" cy="304560"/>
              <a:chOff x="7535880" y="1084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7535880" y="1092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799272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2:51Z</dcterms:created>
  <dc:creator/>
  <dc:description/>
  <dc:language>en-US</dc:language>
  <cp:lastModifiedBy/>
  <dcterms:modified xsi:type="dcterms:W3CDTF">2024-08-15T18:26:23Z</dcterms:modified>
  <cp:revision>1</cp:revision>
  <dc:subject/>
  <dc:title/>
</cp:coreProperties>
</file>