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BC38-1F7B-4697-BD4D-A3C88F02A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2F0-79D3-4C9F-BC05-9BDBC52466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54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10040" y="216000"/>
            <a:ext cx="41148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155680" y="14989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639200" y="1529064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3:45Z</dcterms:created>
  <dc:creator/>
  <dc:description/>
  <dc:language>en-US</dc:language>
  <cp:lastModifiedBy/>
  <dcterms:modified xsi:type="dcterms:W3CDTF">2024-08-15T18:48:34Z</dcterms:modified>
  <cp:revision>1</cp:revision>
  <dc:subject/>
  <dc:title/>
</cp:coreProperties>
</file>