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E01-605E-48AB-AEF2-6FB2F133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2FE-770B-4FC4-A2E4-832EEAF0D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076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997440" y="216000"/>
            <a:ext cx="4140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907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16Z</dcterms:created>
  <dc:creator/>
  <dc:description/>
  <dc:language>en-US</dc:language>
  <cp:lastModifiedBy/>
  <dcterms:modified xsi:type="dcterms:W3CDTF">2024-08-15T18:32:58Z</dcterms:modified>
  <cp:revision>1</cp:revision>
  <dc:subject/>
  <dc:title/>
</cp:coreProperties>
</file>