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983413" cy="8712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47428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9936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4920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47428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59936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49200" y="347400"/>
            <a:ext cx="6285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29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6948360" cy="6559560"/>
          </a:xfrm>
          <a:prstGeom prst="rect">
            <a:avLst/>
          </a:prstGeom>
          <a:ln w="0">
            <a:noFill/>
          </a:ln>
        </p:spPr>
      </p:pic>
      <p:grpSp>
        <p:nvGrpSpPr>
          <p:cNvPr id="1" name="グループ化 23"/>
          <p:cNvGrpSpPr/>
          <p:nvPr/>
        </p:nvGrpSpPr>
        <p:grpSpPr>
          <a:xfrm>
            <a:off x="98280" y="252360"/>
            <a:ext cx="5695920" cy="8352000"/>
            <a:chOff x="98280" y="252360"/>
            <a:chExt cx="5695920" cy="8352000"/>
          </a:xfrm>
        </p:grpSpPr>
        <p:sp>
          <p:nvSpPr>
            <p:cNvPr id="2" name="Text Box 148"/>
            <p:cNvSpPr/>
            <p:nvPr/>
          </p:nvSpPr>
          <p:spPr>
            <a:xfrm>
              <a:off x="1115640" y="7740720"/>
              <a:ext cx="4678560" cy="863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封筒の周囲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10mm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とベロ（フタ）部分には印刷することができません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製袋された封筒に印刷するため、貼り合わせ部分の段差（下図の灰色の破線）にかかるベタなどのデザインはかすれる可能性があります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データは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色で作成してください。色の掛け合わせはできません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用紙サイズの変更やトンボの移動、変形などなさらないようお願いします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透過性や半透明、パターンなど変換が正常に出来ない場合があります。　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を削除してください。また、テンプレートと同じサイズになっている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グループ化 22"/>
            <p:cNvGrpSpPr/>
            <p:nvPr/>
          </p:nvGrpSpPr>
          <p:grpSpPr>
            <a:xfrm>
              <a:off x="98280" y="1439640"/>
              <a:ext cx="5462640" cy="5864400"/>
              <a:chOff x="98280" y="1439640"/>
              <a:chExt cx="5462640" cy="5864400"/>
            </a:xfrm>
          </p:grpSpPr>
          <p:pic>
            <p:nvPicPr>
              <p:cNvPr id="4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1436400" y="1445760"/>
                <a:ext cx="4124520" cy="5858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" name="グループ化 1"/>
              <p:cNvGrpSpPr/>
              <p:nvPr/>
            </p:nvGrpSpPr>
            <p:grpSpPr>
              <a:xfrm>
                <a:off x="98280" y="1439640"/>
                <a:ext cx="5445360" cy="5832720"/>
                <a:chOff x="98280" y="1439640"/>
                <a:chExt cx="5445360" cy="5832720"/>
              </a:xfrm>
            </p:grpSpPr>
            <p:sp>
              <p:nvSpPr>
                <p:cNvPr id="6" name="Rectangle 108"/>
                <p:cNvSpPr/>
                <p:nvPr/>
              </p:nvSpPr>
              <p:spPr>
                <a:xfrm>
                  <a:off x="1441440" y="1439640"/>
                  <a:ext cx="4102200" cy="583272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AutoShape 149"/>
                <p:cNvSpPr/>
                <p:nvPr/>
              </p:nvSpPr>
              <p:spPr>
                <a:xfrm>
                  <a:off x="98280" y="3571560"/>
                  <a:ext cx="1028520" cy="928440"/>
                </a:xfrm>
                <a:prstGeom prst="wedgeRoundRectCallout">
                  <a:avLst>
                    <a:gd name="adj1" fmla="val 112810"/>
                    <a:gd name="adj2" fmla="val -62500"/>
                    <a:gd name="adj3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34920"/>
                      <a:tab algn="l" pos="1870200"/>
                      <a:tab algn="l" pos="2805120"/>
                      <a:tab algn="l" pos="3740040"/>
                      <a:tab algn="l" pos="4675320"/>
                      <a:tab algn="l" pos="5610240"/>
                      <a:tab algn="l" pos="6545160"/>
                      <a:tab algn="l" pos="7480440"/>
                      <a:tab algn="l" pos="8415360"/>
                      <a:tab algn="l" pos="9350280"/>
                      <a:tab algn="l" pos="1028556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全てのオブジェクトをピンクの破線内におさめてください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AutoShape 150"/>
                <p:cNvSpPr/>
                <p:nvPr/>
              </p:nvSpPr>
              <p:spPr>
                <a:xfrm>
                  <a:off x="98280" y="2085480"/>
                  <a:ext cx="1028520" cy="571320"/>
                </a:xfrm>
                <a:prstGeom prst="wedgeRoundRectCallout">
                  <a:avLst>
                    <a:gd name="adj1" fmla="val 79476"/>
                    <a:gd name="adj2" fmla="val -41388"/>
                    <a:gd name="adj3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34920"/>
                      <a:tab algn="l" pos="1870200"/>
                      <a:tab algn="l" pos="2805120"/>
                      <a:tab algn="l" pos="3740040"/>
                      <a:tab algn="l" pos="4675320"/>
                      <a:tab algn="l" pos="5610240"/>
                      <a:tab algn="l" pos="6545160"/>
                      <a:tab algn="l" pos="7480440"/>
                      <a:tab algn="l" pos="8415360"/>
                      <a:tab algn="l" pos="9350280"/>
                      <a:tab algn="l" pos="1028556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青い破線が仕上がり位置となり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34920"/>
                      <a:tab algn="l" pos="1870200"/>
                      <a:tab algn="l" pos="2805120"/>
                      <a:tab algn="l" pos="3740040"/>
                      <a:tab algn="l" pos="4675320"/>
                      <a:tab algn="l" pos="5610240"/>
                      <a:tab algn="l" pos="6545160"/>
                      <a:tab algn="l" pos="7480440"/>
                      <a:tab algn="l" pos="8415360"/>
                      <a:tab algn="l" pos="9350280"/>
                      <a:tab algn="l" pos="1028556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9" name="Picture 10" descr=""/>
            <p:cNvPicPr/>
            <p:nvPr/>
          </p:nvPicPr>
          <p:blipFill>
            <a:blip r:embed="rId4"/>
            <a:stretch/>
          </p:blipFill>
          <p:spPr>
            <a:xfrm>
              <a:off x="1520640" y="252360"/>
              <a:ext cx="3936960" cy="677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2007044</cp:lastModifiedBy>
  <dcterms:modified xsi:type="dcterms:W3CDTF">2017-01-25T08:40:58Z</dcterms:modified>
  <cp:revision>25</cp:revision>
  <dc:subject/>
  <dc:title>PowerPoint プレゼンテーション</dc:title>
</cp:coreProperties>
</file>