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913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4437000" cy="62658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9"/>
          <p:cNvSpPr/>
          <p:nvPr/>
        </p:nvSpPr>
        <p:spPr>
          <a:xfrm>
            <a:off x="919080" y="7453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0"/>
          <p:cNvSpPr/>
          <p:nvPr/>
        </p:nvSpPr>
        <p:spPr>
          <a:xfrm>
            <a:off x="3357720" y="71229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1"/>
          <p:cNvSpPr/>
          <p:nvPr/>
        </p:nvSpPr>
        <p:spPr>
          <a:xfrm>
            <a:off x="3357720" y="10317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27040" y="1449360"/>
            <a:ext cx="3714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5037120" cy="5542200"/>
            <a:chOff x="108000" y="1438200"/>
            <a:chExt cx="5037120" cy="554220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3706920" cy="5542200"/>
            </a:xfrm>
            <a:custGeom>
              <a:avLst/>
              <a:gdLst>
                <a:gd name="textAreaLeft" fmla="*/ 52200 w 3706920"/>
                <a:gd name="textAreaRight" fmla="*/ 3654720 w 3706920"/>
                <a:gd name="textAreaTop" fmla="*/ 52200 h 5542200"/>
                <a:gd name="textAreaBottom" fmla="*/ 5490000 h 5542200"/>
              </a:gdLst>
              <a:ahLst/>
              <a:rect l="textAreaLeft" t="textAreaTop" r="textAreaRight" b="textAreaBottom"/>
              <a:pathLst>
                <a:path w="21600" h="32293">
                  <a:moveTo>
                    <a:pt x="1045" y="0"/>
                  </a:moveTo>
                  <a:arcTo wR="1045" hR="1045" stAng="16200000" swAng="-5400000"/>
                  <a:lnTo>
                    <a:pt x="0" y="31248"/>
                  </a:lnTo>
                  <a:arcTo wR="1045" hR="1045" stAng="10800000" swAng="-5400000"/>
                  <a:lnTo>
                    <a:pt x="20555" y="32293"/>
                  </a:lnTo>
                  <a:arcTo wR="1045" hR="1045" stAng="5400000" swAng="-5400000"/>
                  <a:lnTo>
                    <a:pt x="21600" y="1045"/>
                  </a:lnTo>
                  <a:arcTo wR="1045" hR="1045" stAng="0" swAng="-5400000"/>
                  <a:close/>
                </a:path>
              </a:pathLst>
            </a:cu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0"/>
            <p:cNvSpPr/>
            <p:nvPr/>
          </p:nvSpPr>
          <p:spPr>
            <a:xfrm>
              <a:off x="1798560" y="1798560"/>
              <a:ext cx="2987640" cy="482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2"/>
            <p:cNvSpPr/>
            <p:nvPr/>
          </p:nvSpPr>
          <p:spPr>
            <a:xfrm>
              <a:off x="108000" y="3203640"/>
              <a:ext cx="1028520" cy="9367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3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Picture 13" descr=""/>
          <p:cNvPicPr/>
          <p:nvPr/>
        </p:nvPicPr>
        <p:blipFill>
          <a:blip r:embed="rId4"/>
          <a:stretch/>
        </p:blipFill>
        <p:spPr>
          <a:xfrm>
            <a:off x="1765440" y="179280"/>
            <a:ext cx="306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福井 聡</cp:lastModifiedBy>
  <dcterms:modified xsi:type="dcterms:W3CDTF">2014-08-05T22:50:17Z</dcterms:modified>
  <cp:revision>12</cp:revision>
  <dc:subject/>
  <dc:title>PowerPoint プレゼンテーション</dc:title>
</cp:coreProperties>
</file>