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9807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8C89-A239-4592-A938-59546327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550764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6000" y="5895720"/>
            <a:ext cx="550764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703-9529-455E-965F-135B6948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600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12804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2DC-5994-4C7A-B2D3-C210ECBD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168280" y="25693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030920" y="25693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06000" y="58957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168280" y="58957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030920" y="58957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76E-D746-462F-AE4D-26A767EF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06000" y="2569320"/>
            <a:ext cx="550764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F534-5285-4927-88A0-D51FFC65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550764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D6EA-1D20-4422-A380-38F68986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3C3-4C69-4326-9A9D-9D53C757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033-73B9-42D3-83AE-F1039149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06000" y="437760"/>
            <a:ext cx="5507640" cy="84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7352-C5D8-4BCD-9F39-B9318A1A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600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A73-63B7-4A61-B32F-76C2056E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12804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05B-8FD2-42D6-895A-905D5E60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6000" y="5895720"/>
            <a:ext cx="550764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713-C04D-4CA2-9870-BC988150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6"/>
          <p:cNvGrpSpPr/>
          <p:nvPr/>
        </p:nvGrpSpPr>
        <p:grpSpPr>
          <a:xfrm>
            <a:off x="1079640" y="1077480"/>
            <a:ext cx="3962160" cy="8823240"/>
            <a:chOff x="1079640" y="1077480"/>
            <a:chExt cx="3962160" cy="8823240"/>
          </a:xfrm>
        </p:grpSpPr>
        <p:sp>
          <p:nvSpPr>
            <p:cNvPr id="1" name="Line 106"/>
            <p:cNvSpPr/>
            <p:nvPr/>
          </p:nvSpPr>
          <p:spPr>
            <a:xfrm flipV="1">
              <a:off x="133164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07"/>
            <p:cNvSpPr/>
            <p:nvPr/>
          </p:nvSpPr>
          <p:spPr>
            <a:xfrm flipV="1">
              <a:off x="143964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8"/>
            <p:cNvSpPr/>
            <p:nvPr/>
          </p:nvSpPr>
          <p:spPr>
            <a:xfrm flipV="1">
              <a:off x="306144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9"/>
            <p:cNvSpPr/>
            <p:nvPr/>
          </p:nvSpPr>
          <p:spPr>
            <a:xfrm flipV="1">
              <a:off x="467856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0"/>
            <p:cNvSpPr/>
            <p:nvPr/>
          </p:nvSpPr>
          <p:spPr>
            <a:xfrm flipV="1">
              <a:off x="478656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11"/>
            <p:cNvSpPr/>
            <p:nvPr/>
          </p:nvSpPr>
          <p:spPr>
            <a:xfrm>
              <a:off x="1079640" y="963072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12"/>
            <p:cNvSpPr/>
            <p:nvPr/>
          </p:nvSpPr>
          <p:spPr>
            <a:xfrm>
              <a:off x="1079640" y="952416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13"/>
            <p:cNvSpPr/>
            <p:nvPr/>
          </p:nvSpPr>
          <p:spPr>
            <a:xfrm>
              <a:off x="1081080" y="547488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14"/>
            <p:cNvSpPr/>
            <p:nvPr/>
          </p:nvSpPr>
          <p:spPr>
            <a:xfrm>
              <a:off x="1081080" y="142344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15"/>
            <p:cNvSpPr/>
            <p:nvPr/>
          </p:nvSpPr>
          <p:spPr>
            <a:xfrm>
              <a:off x="1081080" y="131544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16"/>
            <p:cNvSpPr/>
            <p:nvPr/>
          </p:nvSpPr>
          <p:spPr>
            <a:xfrm rot="16200000">
              <a:off x="-1100160" y="3745440"/>
              <a:ext cx="8317080" cy="3453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dt" idx="1"/>
          </p:nvPr>
        </p:nvSpPr>
        <p:spPr>
          <a:xfrm>
            <a:off x="306000" y="10177200"/>
            <a:ext cx="1428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ftr" idx="2"/>
          </p:nvPr>
        </p:nvSpPr>
        <p:spPr>
          <a:xfrm>
            <a:off x="2090880" y="10177200"/>
            <a:ext cx="193968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3"/>
          </p:nvPr>
        </p:nvSpPr>
        <p:spPr>
          <a:xfrm>
            <a:off x="4385880" y="10177200"/>
            <a:ext cx="1428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9918-9EB4-4F47-AB2A-1A9CC89AB9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グループ化 28"/>
          <p:cNvGrpSpPr/>
          <p:nvPr/>
        </p:nvGrpSpPr>
        <p:grpSpPr>
          <a:xfrm>
            <a:off x="81000" y="90360"/>
            <a:ext cx="5940360" cy="10825200"/>
            <a:chOff x="81000" y="90360"/>
            <a:chExt cx="5940360" cy="10825200"/>
          </a:xfrm>
        </p:grpSpPr>
        <p:grpSp>
          <p:nvGrpSpPr>
            <p:cNvPr id="16" name="グループ化 29"/>
            <p:cNvGrpSpPr/>
            <p:nvPr/>
          </p:nvGrpSpPr>
          <p:grpSpPr>
            <a:xfrm>
              <a:off x="81000" y="689760"/>
              <a:ext cx="5940360" cy="10225800"/>
              <a:chOff x="81000" y="689760"/>
              <a:chExt cx="5940360" cy="10225800"/>
            </a:xfrm>
          </p:grpSpPr>
          <p:pic>
            <p:nvPicPr>
              <p:cNvPr id="17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427400" y="689760"/>
                <a:ext cx="3266640" cy="883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" name="AutoShape 172"/>
              <p:cNvSpPr/>
              <p:nvPr/>
            </p:nvSpPr>
            <p:spPr>
              <a:xfrm>
                <a:off x="96840" y="7296120"/>
                <a:ext cx="1100160" cy="799920"/>
              </a:xfrm>
              <a:prstGeom prst="wedgeRoundRectCallout">
                <a:avLst>
                  <a:gd name="adj1" fmla="val 106097"/>
                  <a:gd name="adj2" fmla="val -73032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AutoShape 173"/>
              <p:cNvSpPr/>
              <p:nvPr/>
            </p:nvSpPr>
            <p:spPr>
              <a:xfrm>
                <a:off x="96840" y="5811840"/>
                <a:ext cx="1100160" cy="571320"/>
              </a:xfrm>
              <a:prstGeom prst="wedgeRoundRectCallout">
                <a:avLst>
                  <a:gd name="adj1" fmla="val 73509"/>
                  <a:gd name="adj2" fmla="val -46333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" name="グループ化 34"/>
              <p:cNvGrpSpPr/>
              <p:nvPr/>
            </p:nvGrpSpPr>
            <p:grpSpPr>
              <a:xfrm>
                <a:off x="1429920" y="1407600"/>
                <a:ext cx="3239640" cy="8099640"/>
                <a:chOff x="1429920" y="1407600"/>
                <a:chExt cx="3239640" cy="8099640"/>
              </a:xfrm>
            </p:grpSpPr>
            <p:sp>
              <p:nvSpPr>
                <p:cNvPr id="21" name="Rectangle 146"/>
                <p:cNvSpPr/>
                <p:nvPr/>
              </p:nvSpPr>
              <p:spPr>
                <a:xfrm rot="10800000">
                  <a:off x="1429920" y="1407600"/>
                  <a:ext cx="3239640" cy="8099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146"/>
                <p:cNvSpPr/>
                <p:nvPr/>
              </p:nvSpPr>
              <p:spPr>
                <a:xfrm rot="10800000">
                  <a:off x="1779120" y="2499840"/>
                  <a:ext cx="2519280" cy="6178680"/>
                </a:xfrm>
                <a:prstGeom prst="rect">
                  <a:avLst/>
                </a:prstGeom>
                <a:noFill/>
                <a:ln w="6480">
                  <a:solidFill>
                    <a:srgbClr val="ff66cc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Text Box 174"/>
              <p:cNvSpPr/>
              <p:nvPr/>
            </p:nvSpPr>
            <p:spPr>
              <a:xfrm>
                <a:off x="81000" y="10052280"/>
                <a:ext cx="5940360" cy="863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封筒の周囲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</a:rPr>
                  <a:t>10mm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とベロ（フタ）部分には印刷することができません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製袋された封筒に印刷するため、貼り合わせ部分の段差（下図の灰色の破線）にかかるベタなどのデザインはかすれる可能性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データは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</a:rPr>
                  <a:t>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色で作成してください。色の掛け合わせはできません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用紙サイズの変更やトンボの移動、変形などなさらないようお願いし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透過性や半透明、パターンなど変換が正常に出来ない場合があります。　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を作成する際は、説明部分を削除してください。また、テンプレートと同じサイズになっている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" name="Picture 1" descr=""/>
            <p:cNvPicPr/>
            <p:nvPr/>
          </p:nvPicPr>
          <p:blipFill>
            <a:blip r:embed="rId3"/>
            <a:stretch/>
          </p:blipFill>
          <p:spPr>
            <a:xfrm>
              <a:off x="1512360" y="90360"/>
              <a:ext cx="3096360" cy="5648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5T06:15:36Z</dcterms:created>
  <dc:creator>2007044</dc:creator>
  <dc:description/>
  <dc:language>en-US</dc:language>
  <cp:lastModifiedBy>2007044</cp:lastModifiedBy>
  <dcterms:modified xsi:type="dcterms:W3CDTF">2017-01-25T06:34:29Z</dcterms:modified>
  <cp:revision>3</cp:revision>
  <dc:subject/>
  <dc:title>スライド 1</dc:title>
</cp:coreProperties>
</file>